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DA7EC-FF25-44D6-82FA-7DAD6AE93D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DDCD6-FC48-4E58-98B4-0928B96EE1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0E063-082A-4AF1-B46C-0D115A48D9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10E34-4057-4108-9F88-5D31890C75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DCD8C-3240-4AFD-ACA0-DBC27C0FD2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ns grade, crosses expectations, broad pi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8D0B4-1BA7-410D-A707-6A5413B1FD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7A149-849E-4FA2-A2CA-F6B5859B51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ribute BLM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59783-3B9A-45A0-94E8-2F47BEAAE717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 u="sng">
                <a:solidFill>
                  <a:srgbClr val="000000"/>
                </a:solidFill>
                <a:uFillTx/>
                <a:latin typeface="Arial"/>
              </a:rPr>
              <a:t>Distribute BLM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F889C-4975-4733-AB18-5B6245AC60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EA804-7050-4450-AC1A-F7B2D4CAFA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BA003-8515-468A-80B0-643E168A55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21EBD-D43B-4E11-BF33-DEE674E233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5BF87-D242-4EB5-BEC4-3C4C0E34D9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E3236-0FAF-4E9D-89E7-9C8930EC26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E4471-638E-4710-A518-95F4B43D68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00F7D-1232-4675-9855-151F626A63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ribute BLM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A9ACF-C645-4B58-9A94-9A9C9EBC5D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B5EBA-05CC-40A2-A7F6-69D1CEC375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 group discu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8AD7F-1B1F-42CD-BF05-DCA939D1FD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group followed by large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8613C-FE73-477C-975A-C77B0BD9E3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814C7-3FC3-406E-80F2-D750A0BB08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1B389-C4AD-4F70-B8AA-EE602F298D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able and then some sha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C8335-06F0-4266-9573-502E65BA33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lk about the term Minds-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ple solutions:   -9,-8,-7,….  Or  -38, -36,….  OR -67, -64, -61,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lk about how they got to the 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BE852-4339-42CB-A6AE-B3D466CCB6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ables and then some sha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44F30-8C96-4C1D-B5ED-5D2F77CFD3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F37E2-6E9F-45DD-A446-60DA560911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552A4-3406-4481-A76F-E0E1947F26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A7723-0561-4F7C-818E-9A2EE59B87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C0F8F-3336-4AC8-B80C-EAD7A4ED3A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49A9F-7BCB-404E-B5D2-AD1703961B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213A1-F3C1-4304-8BF8-C4DD08B413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0E0B9-33C7-44F3-B54E-F11AAB2CAF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854C1-04C4-4D9D-8EAC-0762D43393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D7718-49E6-4E42-8A8A-68F2410C0A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 : positive if -9, -8,-7,….  (it would be 10)  or negative e.g. -270, -260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E5CAA-9468-496A-81B2-CCA8223587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62E52-FD0A-4C82-993B-29A77381E1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75A4A-4FB1-40A8-91D4-4A4CC3308A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F34EE-F684-458A-BB99-75E7BEB3B5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280A4-4A30-4758-9C0C-791724E179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3DD4F-771B-41A7-8E55-E9537F12AE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0F748-C4F5-4123-BED1-C7585968D6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352E5-5D4B-4B56-B094-50FF9848FE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be what other representation  ( or maybe oth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F19F6-0ED5-410F-920E-FEAFB948DA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499EB-FF9F-4B07-9C36-9EA4D78BCB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5AC88-B07F-4CB4-AEC2-A5C0DBC11F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at t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22603-0195-435E-87B0-643F9A00C3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es closer to big 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C53C1-EDD5-40EF-A7EF-BE4CD3A23B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es closer to big 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C2CE9-5223-46D2-8DEB-A641EFD67E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1EA46-5310-4453-9A3D-CC9E66FD98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10297-02DF-453C-8E68-360E00D5FD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25ABE-4F2F-469D-A100-983ECBED4C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1136A-E0AC-4247-B3CD-F8B3A27310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ABDB8-4E18-4741-B89C-CDA9415153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be that there are many sequences with a common term; maybe what a linear growing pattern is; maybe that if the sequence grows fast then values that are near in position  are far apart but if the sequence goes slow, it’s not true; maybe it’s that sequences can grow fast or slow- discuss at tables and then in large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A0801-791F-42E6-8850-B372F299AC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uld deal with first big idea regardless but second one only if I ask that other question- large group discussion on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3ABCB-4967-4A73-99CA-72F1DB6FC9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hetorical only--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8A3FC-D808-4A91-8E23-2040E2D2D0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44F3-4059-4684-8F17-0CACCF84A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F9B9-D701-4A35-8BFE-8FA3BC1FF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FF0D-73C1-44C9-8E27-E9A5969B2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1F5D-F991-4180-859B-25BEB5DE5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910A-100B-4122-9F17-4EBC2DEDA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EC87-382C-4357-99AE-EF6655119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4C54-16AD-43BD-B5E3-04B6DD85D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4CAC-5555-4F53-9A0F-59FAD45B2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47DA-481E-4ED1-AB81-CBD7C97DA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3A13-C106-43AA-B452-19B7B7A87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AE42-22BF-45B0-9416-9723766D2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6EEF-6845-4EEE-83A9-E57F5F78F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a3e0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AF5D9-DAF2-4C94-A958-9249D074351E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5" name="Picture 12" descr=""/>
          <p:cNvPicPr/>
          <p:nvPr/>
        </p:nvPicPr>
        <p:blipFill>
          <a:blip r:embed="rId2"/>
          <a:stretch/>
        </p:blipFill>
        <p:spPr>
          <a:xfrm>
            <a:off x="7343640" y="-27000"/>
            <a:ext cx="1441440" cy="1181160"/>
          </a:xfrm>
          <a:prstGeom prst="rect">
            <a:avLst/>
          </a:prstGeom>
          <a:ln w="0">
            <a:noFill/>
          </a:ln>
        </p:spPr>
      </p:pic>
      <p:pic>
        <p:nvPicPr>
          <p:cNvPr id="6" name="Picture 7" descr="Untitled-1"/>
          <p:cNvPicPr/>
          <p:nvPr/>
        </p:nvPicPr>
        <p:blipFill>
          <a:blip r:embed="rId3"/>
          <a:stretch/>
        </p:blipFill>
        <p:spPr>
          <a:xfrm>
            <a:off x="380880" y="380880"/>
            <a:ext cx="6853320" cy="152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a3e0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6" descr=""/>
          <p:cNvPicPr/>
          <p:nvPr/>
        </p:nvPicPr>
        <p:blipFill>
          <a:blip r:embed="rId1"/>
          <a:stretch/>
        </p:blipFill>
        <p:spPr>
          <a:xfrm>
            <a:off x="1763640" y="838080"/>
            <a:ext cx="5545080" cy="45468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11"/>
          <p:cNvSpPr/>
          <p:nvPr/>
        </p:nvSpPr>
        <p:spPr>
          <a:xfrm>
            <a:off x="431640" y="533700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d469b"/>
                </a:solidFill>
                <a:latin typeface="Book Antiqua"/>
              </a:rPr>
              <a:t>Plenary 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a3e0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What are Big Idea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1219320" y="1905120"/>
            <a:ext cx="741672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andy Charles: A Big Idea is a statement of an idea that is central to the learning of mathematics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38C1B-3847-4C1A-9A28-3157167FEE00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a3e0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3"/>
          <p:cNvSpPr/>
          <p:nvPr/>
        </p:nvSpPr>
        <p:spPr>
          <a:xfrm>
            <a:off x="1219320" y="1905120"/>
            <a:ext cx="741672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rian Small: ….one that connects numerous mathematical understandings into a coherent whol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654C3-17E7-487E-9B9A-F1294A23DB3A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a3e0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Big Id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1219320" y="1905120"/>
            <a:ext cx="7416720" cy="81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_x0010_NOT a topic name nor an overall expectation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UT a statement (sentence) that a student could walk away with that makes a fundamental mathematical connectio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401ED-B748-4FBD-98FA-CCCDD1F1A833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0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a3e0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3"/>
          <p:cNvSpPr/>
          <p:nvPr/>
        </p:nvSpPr>
        <p:spPr>
          <a:xfrm>
            <a:off x="1219320" y="1905120"/>
            <a:ext cx="741672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t provides a lens in which to embed new learning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7E6C3-12BA-4E0B-9939-5152C92716EB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a3e0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Big Idea #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1219320" y="1905120"/>
            <a:ext cx="7416720" cy="78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gebraic reasoning is a process of describing and analyzing (e.g. predicting) generalized mathematical relationships and change using words and symbol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8871D-11FA-46EE-A124-2EB03BED3BF5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4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a3e0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gear"/>
          <p:cNvPicPr/>
          <p:nvPr/>
        </p:nvPicPr>
        <p:blipFill>
          <a:blip r:embed="rId1"/>
          <a:srcRect l="10754" t="22727" r="24492" b="27194"/>
          <a:stretch/>
        </p:blipFill>
        <p:spPr>
          <a:xfrm>
            <a:off x="3132000" y="1052640"/>
            <a:ext cx="5554800" cy="5562360"/>
          </a:xfrm>
          <a:prstGeom prst="rect">
            <a:avLst/>
          </a:prstGeom>
          <a:ln w="0">
            <a:noFill/>
          </a:ln>
        </p:spPr>
      </p:pic>
      <p:sp>
        <p:nvSpPr>
          <p:cNvPr id="89" name="Text Box 3"/>
          <p:cNvSpPr/>
          <p:nvPr/>
        </p:nvSpPr>
        <p:spPr>
          <a:xfrm>
            <a:off x="0" y="1614600"/>
            <a:ext cx="502920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9900"/>
                </a:solidFill>
                <a:latin typeface="Arial"/>
              </a:rPr>
              <a:t>Represen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cc0000"/>
                </a:solidFill>
                <a:latin typeface="Arial"/>
              </a:rPr>
              <a:t>Reflec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ff"/>
                </a:solidFill>
                <a:latin typeface="Arial"/>
              </a:rPr>
              <a:t>Reasoning and Pro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cc00"/>
                </a:solidFill>
                <a:latin typeface="Arial"/>
              </a:rPr>
              <a:t>Connec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8080"/>
                </a:solidFill>
                <a:latin typeface="Arial"/>
              </a:rPr>
              <a:t>Selecting Tools and Computational Strate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WordArt 4"/>
          <p:cNvSpPr txBox="1"/>
          <p:nvPr/>
        </p:nvSpPr>
        <p:spPr>
          <a:xfrm rot="18202800">
            <a:off x="3752640" y="3393720"/>
            <a:ext cx="1028520" cy="2192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presenting</a:t>
            </a:r>
            <a:endParaRPr b="0" lang="en-US" sz="16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1" name="WordArt 5"/>
          <p:cNvSpPr txBox="1"/>
          <p:nvPr/>
        </p:nvSpPr>
        <p:spPr>
          <a:xfrm rot="3565800">
            <a:off x="6898680" y="2231640"/>
            <a:ext cx="819000" cy="2192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flecting</a:t>
            </a:r>
            <a:endParaRPr b="0" lang="en-US" sz="16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2" name="WordArt 6"/>
          <p:cNvSpPr txBox="1"/>
          <p:nvPr/>
        </p:nvSpPr>
        <p:spPr>
          <a:xfrm rot="20286600">
            <a:off x="5117760" y="1963440"/>
            <a:ext cx="1655640" cy="387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asoning and Proving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3" name="WordArt 7"/>
          <p:cNvSpPr txBox="1"/>
          <p:nvPr/>
        </p:nvSpPr>
        <p:spPr>
          <a:xfrm rot="19335600">
            <a:off x="5619600" y="3586320"/>
            <a:ext cx="1981440" cy="38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electing Tools and 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mputational Strategies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4" name="WordArt 8"/>
          <p:cNvSpPr txBox="1"/>
          <p:nvPr/>
        </p:nvSpPr>
        <p:spPr>
          <a:xfrm rot="576000">
            <a:off x="4133880" y="4495320"/>
            <a:ext cx="104760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nnecting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-57240" y="1965240"/>
            <a:ext cx="38102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Communic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Problem Sol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WordArt 10"/>
          <p:cNvSpPr txBox="1"/>
          <p:nvPr/>
        </p:nvSpPr>
        <p:spPr>
          <a:xfrm rot="19346400">
            <a:off x="5314680" y="3166560"/>
            <a:ext cx="895320" cy="3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Communicatin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97" name="WordArt 11"/>
          <p:cNvSpPr txBox="1"/>
          <p:nvPr/>
        </p:nvSpPr>
        <p:spPr>
          <a:xfrm rot="2179800">
            <a:off x="6629040" y="5486040"/>
            <a:ext cx="1409760" cy="2667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Problem Solvin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Mathematical Processe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1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1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3000"/>
                            </p:stCondLst>
                            <p:childTnLst>
                              <p:par>
                                <p:cTn id="1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10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4000"/>
                            </p:stCondLst>
                            <p:childTnLst>
                              <p:par>
                                <p:cTn id="1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10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3.3526E-006 L 0.30642 0.22196 E">
                                      <p:cBhvr>
                                        <p:cTn id="193" dur="2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4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3.75723E-006 L 0.67431 -0.04 E">
                                      <p:cBhvr>
                                        <p:cTn id="195" dur="2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6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4.16185E-006 L 0.37552 -0.17989 E">
                                      <p:cBhvr>
                                        <p:cTn id="197" dur="2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8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4.56647E-006 L 0.37621 0.07976 E">
                                      <p:cBhvr>
                                        <p:cTn id="199" dur="2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0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2.31214E-006 L 0.49705 -0.20879 E">
                                      <p:cBhvr>
                                        <p:cTn id="201" dur="2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3" dur="2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20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5" dur="2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20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7" dur="2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20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9" dur="2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21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1" dur="2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212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3" dur="3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3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3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3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9" dur="3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3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3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3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5" dur="3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3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3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3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1" dur="30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30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30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30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7" dur="30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30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30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30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3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3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3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3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3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000"/>
                            </p:stCondLst>
                            <p:childTnLst>
                              <p:par>
                                <p:cTn id="2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4.91329E-006 L 0.45347 0.15977 E">
                                      <p:cBhvr>
                                        <p:cTn id="273" dur="2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4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5" dur="3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3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3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3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3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4.50867E-006 L 0.61268 0.34174 E">
                                      <p:cBhvr>
                                        <p:cTn id="286" dur="2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7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8" dur="3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3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3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3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3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a3e0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Notice the proce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2895480" y="1905120"/>
            <a:ext cx="5740560" cy="58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otice the embedded processes in the 1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omic Sans MS"/>
              </a:rPr>
              <a:t>st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big idea- communication, reasoning, connec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30676-7A7E-41E2-B956-D73189D9137B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" descr="gear"/>
          <p:cNvPicPr/>
          <p:nvPr/>
        </p:nvPicPr>
        <p:blipFill>
          <a:blip r:embed="rId1"/>
          <a:srcRect l="10754" t="22727" r="24492" b="27194"/>
          <a:stretch/>
        </p:blipFill>
        <p:spPr>
          <a:xfrm>
            <a:off x="609480" y="4343400"/>
            <a:ext cx="2144880" cy="2147760"/>
          </a:xfrm>
          <a:prstGeom prst="rect">
            <a:avLst/>
          </a:prstGeom>
          <a:ln w="0">
            <a:noFill/>
          </a:ln>
        </p:spPr>
      </p:pic>
      <p:sp>
        <p:nvSpPr>
          <p:cNvPr id="103" name="WordArt 10"/>
          <p:cNvSpPr txBox="1"/>
          <p:nvPr/>
        </p:nvSpPr>
        <p:spPr>
          <a:xfrm rot="19346400">
            <a:off x="1225440" y="5040000"/>
            <a:ext cx="895320" cy="32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Communicatin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pic>
        <p:nvPicPr>
          <p:cNvPr id="104" name="WordArt 8" descr=""/>
          <p:cNvPicPr/>
          <p:nvPr/>
        </p:nvPicPr>
        <p:blipFill>
          <a:blip r:embed="rId2"/>
          <a:stretch/>
        </p:blipFill>
        <p:spPr>
          <a:xfrm>
            <a:off x="755640" y="5479920"/>
            <a:ext cx="1085760" cy="433440"/>
          </a:xfrm>
          <a:prstGeom prst="rect">
            <a:avLst/>
          </a:prstGeom>
          <a:ln w="0">
            <a:noFill/>
          </a:ln>
        </p:spPr>
      </p:pic>
      <p:sp>
        <p:nvSpPr>
          <p:cNvPr id="105" name="WordArt 6"/>
          <p:cNvSpPr txBox="1"/>
          <p:nvPr/>
        </p:nvSpPr>
        <p:spPr>
          <a:xfrm rot="20286600">
            <a:off x="1002960" y="4485960"/>
            <a:ext cx="1655640" cy="387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Reasoning and Proving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p:transition>
    <p:fade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2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3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3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3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a3e0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Big Idea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457200" y="1905120"/>
            <a:ext cx="8686800" cy="65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Different representations of relationships (e.g. numeric, graphic, geometric, algebraic, verbal,concrete/pictorial) highlight different characteristics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or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behaviours, and can serve different purpos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2F311-EA34-44EF-B8CC-D32D7B1E3860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0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0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a3e0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3"/>
          <p:cNvSpPr/>
          <p:nvPr/>
        </p:nvSpPr>
        <p:spPr>
          <a:xfrm>
            <a:off x="457200" y="1905120"/>
            <a:ext cx="3276720" cy="64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ich processes do you see embedded in this 2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omic Sans MS"/>
              </a:rPr>
              <a:t>nd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big ide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B34CB-B73F-4986-8B25-79F875EE9663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2" descr="gear"/>
          <p:cNvPicPr/>
          <p:nvPr/>
        </p:nvPicPr>
        <p:blipFill>
          <a:blip r:embed="rId1"/>
          <a:srcRect l="10754" t="22727" r="24492" b="27194"/>
          <a:stretch/>
        </p:blipFill>
        <p:spPr>
          <a:xfrm>
            <a:off x="3589200" y="914400"/>
            <a:ext cx="5402520" cy="5562720"/>
          </a:xfrm>
          <a:prstGeom prst="rect">
            <a:avLst/>
          </a:prstGeom>
          <a:ln w="0">
            <a:noFill/>
          </a:ln>
        </p:spPr>
      </p:pic>
      <p:sp>
        <p:nvSpPr>
          <p:cNvPr id="112" name="WordArt 4"/>
          <p:cNvSpPr txBox="1"/>
          <p:nvPr/>
        </p:nvSpPr>
        <p:spPr>
          <a:xfrm rot="18202800">
            <a:off x="3974760" y="3428640"/>
            <a:ext cx="1028520" cy="2192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presenting</a:t>
            </a:r>
            <a:endParaRPr b="0" lang="en-US" sz="16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13" name="WordArt 5"/>
          <p:cNvSpPr txBox="1"/>
          <p:nvPr/>
        </p:nvSpPr>
        <p:spPr>
          <a:xfrm rot="3565800">
            <a:off x="6898680" y="2231640"/>
            <a:ext cx="819000" cy="2192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flecting</a:t>
            </a:r>
            <a:endParaRPr b="0" lang="en-US" sz="16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14" name="WordArt 6"/>
          <p:cNvSpPr txBox="1"/>
          <p:nvPr/>
        </p:nvSpPr>
        <p:spPr>
          <a:xfrm rot="20286600">
            <a:off x="5117760" y="1963440"/>
            <a:ext cx="1655640" cy="387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asoning and Proving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15" name="WordArt 7"/>
          <p:cNvSpPr txBox="1"/>
          <p:nvPr/>
        </p:nvSpPr>
        <p:spPr>
          <a:xfrm rot="19335600">
            <a:off x="5619600" y="3586320"/>
            <a:ext cx="1981440" cy="38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electing Tools and 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mputational Strategies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16" name="WordArt 8"/>
          <p:cNvSpPr txBox="1"/>
          <p:nvPr/>
        </p:nvSpPr>
        <p:spPr>
          <a:xfrm rot="576000">
            <a:off x="4133880" y="4495320"/>
            <a:ext cx="104760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nnecting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17" name="WordArt 10"/>
          <p:cNvSpPr txBox="1"/>
          <p:nvPr/>
        </p:nvSpPr>
        <p:spPr>
          <a:xfrm rot="19346400">
            <a:off x="5568840" y="3058920"/>
            <a:ext cx="895320" cy="32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Communicatin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18" name="WordArt 11"/>
          <p:cNvSpPr txBox="1"/>
          <p:nvPr/>
        </p:nvSpPr>
        <p:spPr>
          <a:xfrm rot="2179800">
            <a:off x="6629040" y="5486040"/>
            <a:ext cx="1409760" cy="2667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Problem Solvin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a3e0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Big Idea #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1219320" y="1905120"/>
            <a:ext cx="7416720" cy="71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aring mathematical relationships helps us see that there are classes of relationships and provides insight into each member of the clas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5CF5A-836A-4075-9BBC-CFD71510C5EC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2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a3e0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1599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What’s important about the Math we Teach?</a:t>
            </a:r>
            <a:br>
              <a:rPr sz="4400"/>
            </a:b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A Focus on Big Idea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14400" y="4495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ian Sm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www.onetwoinfinity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a3e0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3"/>
          <p:cNvSpPr/>
          <p:nvPr/>
        </p:nvSpPr>
        <p:spPr>
          <a:xfrm>
            <a:off x="457200" y="1905120"/>
            <a:ext cx="3276720" cy="64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ich processes do you see embedded in this 3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omic Sans MS"/>
              </a:rPr>
              <a:t>rd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big ide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DBA20-524E-40A1-B1E0-CE6E224A16D7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gear"/>
          <p:cNvPicPr/>
          <p:nvPr/>
        </p:nvPicPr>
        <p:blipFill>
          <a:blip r:embed="rId1"/>
          <a:srcRect l="10754" t="22727" r="24492" b="27194"/>
          <a:stretch/>
        </p:blipFill>
        <p:spPr>
          <a:xfrm>
            <a:off x="3589200" y="914400"/>
            <a:ext cx="5402520" cy="5562720"/>
          </a:xfrm>
          <a:prstGeom prst="rect">
            <a:avLst/>
          </a:prstGeom>
          <a:ln w="0">
            <a:noFill/>
          </a:ln>
        </p:spPr>
      </p:pic>
      <p:sp>
        <p:nvSpPr>
          <p:cNvPr id="125" name="WordArt 4"/>
          <p:cNvSpPr txBox="1"/>
          <p:nvPr/>
        </p:nvSpPr>
        <p:spPr>
          <a:xfrm rot="18202800">
            <a:off x="3974760" y="3428640"/>
            <a:ext cx="1028520" cy="2192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presenting</a:t>
            </a:r>
            <a:endParaRPr b="0" lang="en-US" sz="16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26" name="WordArt 5"/>
          <p:cNvSpPr txBox="1"/>
          <p:nvPr/>
        </p:nvSpPr>
        <p:spPr>
          <a:xfrm rot="3565800">
            <a:off x="6898680" y="2231640"/>
            <a:ext cx="819000" cy="2192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flecting</a:t>
            </a:r>
            <a:endParaRPr b="0" lang="en-US" sz="16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27" name="WordArt 6"/>
          <p:cNvSpPr txBox="1"/>
          <p:nvPr/>
        </p:nvSpPr>
        <p:spPr>
          <a:xfrm rot="20286600">
            <a:off x="5117760" y="1963440"/>
            <a:ext cx="1655640" cy="387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asoning and Proving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28" name="WordArt 7"/>
          <p:cNvSpPr txBox="1"/>
          <p:nvPr/>
        </p:nvSpPr>
        <p:spPr>
          <a:xfrm rot="19335600">
            <a:off x="5619600" y="3586320"/>
            <a:ext cx="1981440" cy="38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electing Tools and 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mputational Strategies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29" name="WordArt 8"/>
          <p:cNvSpPr txBox="1"/>
          <p:nvPr/>
        </p:nvSpPr>
        <p:spPr>
          <a:xfrm rot="576000">
            <a:off x="4133880" y="4495320"/>
            <a:ext cx="104760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nnecting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0" name="WordArt 10"/>
          <p:cNvSpPr txBox="1"/>
          <p:nvPr/>
        </p:nvSpPr>
        <p:spPr>
          <a:xfrm rot="19346400">
            <a:off x="5568840" y="3058920"/>
            <a:ext cx="895320" cy="32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Communicatin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31" name="WordArt 11"/>
          <p:cNvSpPr txBox="1"/>
          <p:nvPr/>
        </p:nvSpPr>
        <p:spPr>
          <a:xfrm rot="2179800">
            <a:off x="6629040" y="5486040"/>
            <a:ext cx="1409760" cy="2667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Problem Solvin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a3e0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Big Idea #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1219320" y="1905120"/>
            <a:ext cx="7416720" cy="64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mited information about a mathematical relationship can sometimes, but not always, allow us to predict other information about that relationship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ABCBD-7C09-484C-835E-EA74AE08557B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0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4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a3e0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3"/>
          <p:cNvSpPr/>
          <p:nvPr/>
        </p:nvSpPr>
        <p:spPr>
          <a:xfrm>
            <a:off x="457200" y="1905120"/>
            <a:ext cx="3276720" cy="64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ich processes do you see embedded in this 4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 big ide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05AEF-E203-4C8A-9A82-717E1B4D8700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2" descr="gear"/>
          <p:cNvPicPr/>
          <p:nvPr/>
        </p:nvPicPr>
        <p:blipFill>
          <a:blip r:embed="rId1"/>
          <a:srcRect l="10754" t="22727" r="24492" b="27194"/>
          <a:stretch/>
        </p:blipFill>
        <p:spPr>
          <a:xfrm>
            <a:off x="3589200" y="914400"/>
            <a:ext cx="5402520" cy="5562720"/>
          </a:xfrm>
          <a:prstGeom prst="rect">
            <a:avLst/>
          </a:prstGeom>
          <a:ln w="0">
            <a:noFill/>
          </a:ln>
        </p:spPr>
      </p:pic>
      <p:sp>
        <p:nvSpPr>
          <p:cNvPr id="138" name="WordArt 4"/>
          <p:cNvSpPr txBox="1"/>
          <p:nvPr/>
        </p:nvSpPr>
        <p:spPr>
          <a:xfrm rot="18202800">
            <a:off x="3974760" y="3428640"/>
            <a:ext cx="1028520" cy="2192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presenting</a:t>
            </a:r>
            <a:endParaRPr b="0" lang="en-US" sz="16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9" name="WordArt 5"/>
          <p:cNvSpPr txBox="1"/>
          <p:nvPr/>
        </p:nvSpPr>
        <p:spPr>
          <a:xfrm rot="3565800">
            <a:off x="6898680" y="2231640"/>
            <a:ext cx="819000" cy="2192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flecting</a:t>
            </a:r>
            <a:endParaRPr b="0" lang="en-US" sz="16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40" name="WordArt 6"/>
          <p:cNvSpPr txBox="1"/>
          <p:nvPr/>
        </p:nvSpPr>
        <p:spPr>
          <a:xfrm rot="20286600">
            <a:off x="5117760" y="1963440"/>
            <a:ext cx="1655640" cy="387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asoning and Proving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41" name="WordArt 7"/>
          <p:cNvSpPr txBox="1"/>
          <p:nvPr/>
        </p:nvSpPr>
        <p:spPr>
          <a:xfrm rot="19335600">
            <a:off x="5619600" y="3586320"/>
            <a:ext cx="1981440" cy="38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electing Tools and 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mputational Strategies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42" name="WordArt 8"/>
          <p:cNvSpPr txBox="1"/>
          <p:nvPr/>
        </p:nvSpPr>
        <p:spPr>
          <a:xfrm rot="576000">
            <a:off x="4133880" y="4495320"/>
            <a:ext cx="104760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nnecting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43" name="WordArt 10"/>
          <p:cNvSpPr txBox="1"/>
          <p:nvPr/>
        </p:nvSpPr>
        <p:spPr>
          <a:xfrm rot="19346400">
            <a:off x="5568840" y="3058920"/>
            <a:ext cx="895320" cy="32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Communicatin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44" name="WordArt 11"/>
          <p:cNvSpPr txBox="1"/>
          <p:nvPr/>
        </p:nvSpPr>
        <p:spPr>
          <a:xfrm rot="2179800">
            <a:off x="6629040" y="5486040"/>
            <a:ext cx="1409760" cy="2667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Problem Solvin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a3e0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2"/>
          <p:cNvSpPr/>
          <p:nvPr/>
        </p:nvSpPr>
        <p:spPr>
          <a:xfrm>
            <a:off x="1155600" y="990720"/>
            <a:ext cx="7302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Getting a feel for the big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1143000" y="2666880"/>
            <a:ext cx="741672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wo sets of questions will be circulated which are designed to bring out the big idea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391C3-E444-42C4-9CFC-C053515FC6C0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6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a3e0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1155600" y="990720"/>
            <a:ext cx="7302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Getting a feel for the big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1143000" y="2666880"/>
            <a:ext cx="741672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hoose one of those sets of questions. Match each question to the big idea it is most likely to elici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20775-3648-44EB-BCDB-E212AAA0A0D7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0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8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a3e0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2"/>
          <p:cNvSpPr/>
          <p:nvPr/>
        </p:nvSpPr>
        <p:spPr>
          <a:xfrm>
            <a:off x="1155600" y="990720"/>
            <a:ext cx="7302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Some questions about your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1143000" y="2666880"/>
            <a:ext cx="7416720" cy="54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ich big idea did you find easiest to match first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ich did you find hardest to match firs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0DFAF-7CBB-49F9-88BC-66B634152C99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0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0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a3e0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2"/>
          <p:cNvSpPr/>
          <p:nvPr/>
        </p:nvSpPr>
        <p:spPr>
          <a:xfrm>
            <a:off x="1155600" y="990720"/>
            <a:ext cx="7302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Some questions about your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1143000" y="2666880"/>
            <a:ext cx="7416720" cy="41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ich of the questions did you like best? Wh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77D10-019E-4B23-91FE-B0F3BA6ABBBE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0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7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a3e0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2"/>
          <p:cNvSpPr/>
          <p:nvPr/>
        </p:nvSpPr>
        <p:spPr>
          <a:xfrm>
            <a:off x="1155600" y="990720"/>
            <a:ext cx="7302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Some questions about your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1143000" y="2666880"/>
            <a:ext cx="7416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do the questions that matched Big Idea 1 show the notion of generalizat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A5947-F314-4956-9E7D-FE86442CB74D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0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9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a3e0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2"/>
          <p:cNvSpPr/>
          <p:nvPr/>
        </p:nvSpPr>
        <p:spPr>
          <a:xfrm>
            <a:off x="1155600" y="990720"/>
            <a:ext cx="7302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Some questions about your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1143000" y="2666880"/>
            <a:ext cx="741672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do the questions that matched Big Idea 1 show the notion of describing or analyzing relationships or chang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C1AF7-DCED-4391-A2DD-262EA1D340C1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0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1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a3e0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1155600" y="990720"/>
            <a:ext cx="7302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Some questions about your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1143000" y="2666880"/>
            <a:ext cx="741672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could the question that matched Big Idea 2 broaden a student’s notion of what a “class” of relationships might b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69FF7-904E-48F4-9AC3-26F439BC5FCC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0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3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a3e0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Minds-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1042920" y="2014560"/>
            <a:ext cx="7416720" cy="58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3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omic Sans MS"/>
              </a:rPr>
              <a:t>rd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term in a linear growing pattern is negativ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30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 term is 20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might the 20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term b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38180-32B7-4501-A93D-0D875D5142A9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a3e0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"/>
          <p:cNvSpPr/>
          <p:nvPr/>
        </p:nvSpPr>
        <p:spPr>
          <a:xfrm>
            <a:off x="1155600" y="990720"/>
            <a:ext cx="7302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Some questions about your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1143000" y="2666880"/>
            <a:ext cx="741672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could the questions that matched Big Idea 3 broaden a student’s sense of what different representations mean and/or what their purpose 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9506D-524E-4018-8193-AAC12C183F49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0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5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a3e0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2"/>
          <p:cNvSpPr/>
          <p:nvPr/>
        </p:nvSpPr>
        <p:spPr>
          <a:xfrm>
            <a:off x="1155600" y="990720"/>
            <a:ext cx="7302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Some questions about your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1143000" y="2666880"/>
            <a:ext cx="7416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an you think of other examples that you’ve used in the past (with or without realizing it) to make students see that from limited information you can get mo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AC198-A639-430B-9BA5-DAC6488FB2B1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0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7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a3e0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Y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o</a:t>
            </a: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u just experienced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1066680" y="1828800"/>
            <a:ext cx="7417080" cy="51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parallel task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e will talk more about these, but these two very related tasks were adjusted to meet your needs but treated together in our consolidat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61C58-88C3-43E1-A1C3-DDB1233DF5DA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0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9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9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a3e0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Why use big idea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3"/>
          <p:cNvSpPr/>
          <p:nvPr/>
        </p:nvSpPr>
        <p:spPr>
          <a:xfrm>
            <a:off x="1066680" y="1828800"/>
            <a:ext cx="7417080" cy="68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 build connections students need in order to learn both through grades and within gra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 prioritize instructional 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7FC51-D16B-459C-8127-0F21AA505987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0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6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6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a3e0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2"/>
          <p:cNvSpPr/>
          <p:nvPr/>
        </p:nvSpPr>
        <p:spPr>
          <a:xfrm>
            <a:off x="1155600" y="990720"/>
            <a:ext cx="7302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Sharing big ideas with stud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1143000" y="2514600"/>
            <a:ext cx="7416720" cy="58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t helps for students to make the big ideas explicit so that is becomes easier to make the connections to prior knowledg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9086D-FD88-4196-9C8F-A3E9719EEE64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3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a3e0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Building lesson 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3"/>
          <p:cNvSpPr/>
          <p:nvPr/>
        </p:nvSpPr>
        <p:spPr>
          <a:xfrm>
            <a:off x="1066680" y="1828800"/>
            <a:ext cx="741708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You can use a big idea to hone in on an appropriate lesson goal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2A6EB-391C-42F5-8DD4-C4AE4078EA7D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0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5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a3e0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For example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3"/>
          <p:cNvSpPr/>
          <p:nvPr/>
        </p:nvSpPr>
        <p:spPr>
          <a:xfrm>
            <a:off x="1066680" y="1828800"/>
            <a:ext cx="7417080" cy="74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sider the expectation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lve first degree equations with non-fractional coefficients using a variety of tools (e.g. 2x + 7 = 6x – 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DA183-1655-4788-8015-1A0C3927991B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0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7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7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a3e0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2"/>
          <p:cNvSpPr/>
          <p:nvPr/>
        </p:nvSpPr>
        <p:spPr>
          <a:xfrm>
            <a:off x="1155600" y="990720"/>
            <a:ext cx="7302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What is my lesson go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3"/>
          <p:cNvSpPr/>
          <p:nvPr/>
        </p:nvSpPr>
        <p:spPr>
          <a:xfrm>
            <a:off x="1066680" y="1828800"/>
            <a:ext cx="741708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 am going to propose that it is not that “students will use a balance to solve a linear equation”, bu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F0E9F-7725-4B8D-8E7A-D4AA5D1EC649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0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4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a3e0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2"/>
          <p:cNvSpPr/>
          <p:nvPr/>
        </p:nvSpPr>
        <p:spPr>
          <a:xfrm>
            <a:off x="1155600" y="990720"/>
            <a:ext cx="7302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What is my lesson go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1066680" y="1828800"/>
            <a:ext cx="7417080" cy="64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ybe: recognizing that solving an equation means determining an equivalent equation where the unknown value is more obvious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1C0EF-4493-4BF9-80B5-1BF490969F3D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6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1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a3e0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What I me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3"/>
          <p:cNvSpPr/>
          <p:nvPr/>
        </p:nvSpPr>
        <p:spPr>
          <a:xfrm>
            <a:off x="1066680" y="1828800"/>
            <a:ext cx="7417080" cy="55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se equations are equivalent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X =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2x – 7  =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3x + 7 = x + 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D3E9D-E220-4CF9-A37A-A88C8C89C93D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0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8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3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3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8" dur="5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a3e0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Minds-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1042920" y="2014560"/>
            <a:ext cx="741672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uld the 20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term be either positive or negative? Why is tha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2CC68-D0DB-4357-BDD3-2FF1F73E1F93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a3e0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What I me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3"/>
          <p:cNvSpPr/>
          <p:nvPr/>
        </p:nvSpPr>
        <p:spPr>
          <a:xfrm>
            <a:off x="838080" y="4114800"/>
            <a:ext cx="741708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se equations are equivalen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 =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x – 7  =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x + 7 = x + 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4D2B8-815F-442F-9C8C-E8FF1B43EFE6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1523880" y="1809720"/>
            <a:ext cx="74170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ut it’s sure easier to see the unknown value in one of them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a3e0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2"/>
          <p:cNvSpPr/>
          <p:nvPr/>
        </p:nvSpPr>
        <p:spPr>
          <a:xfrm>
            <a:off x="1155600" y="990720"/>
            <a:ext cx="73026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What does this mean for consolidating the less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1066680" y="2590920"/>
            <a:ext cx="741708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 need to ask a question or two that gets RIGHT to my goal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24466-6111-48A9-B8D7-827AE65E698E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fill="hold">
                      <p:stCondLst>
                        <p:cond delay="0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5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0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a3e0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Consolidation o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1066680" y="2590920"/>
            <a:ext cx="7417080" cy="54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gree or disagree: The equation 5x – 4 =  17 + 3x is really the equation x = 10.5 in disguis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FDE22-B340-4331-9EBC-67EA3D8DED32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0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7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2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a3e0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Consolidation o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3"/>
          <p:cNvSpPr/>
          <p:nvPr/>
        </p:nvSpPr>
        <p:spPr>
          <a:xfrm>
            <a:off x="1066680" y="2590920"/>
            <a:ext cx="7417080" cy="618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ich equation would you find easier to solve? Why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5x – 4 =  17 + 3x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x = 10.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3BD91-E243-4556-A675-393DB7481075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0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9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4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9" dur="5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4" dur="5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a3e0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Consolidation o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1066680" y="2590920"/>
            <a:ext cx="7417080" cy="61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y might someone say that solving an equation is about finding what easier equation is being disguis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A5BD8-C657-41B9-ADF8-617E5715E031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fill="hold">
                      <p:stCondLst>
                        <p:cond delay="0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51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6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a3e0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One more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3"/>
          <p:cNvSpPr/>
          <p:nvPr/>
        </p:nvSpPr>
        <p:spPr>
          <a:xfrm>
            <a:off x="1066680" y="1981080"/>
            <a:ext cx="7417080" cy="78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curriculum expectation reads: construct tables of values and graphs using a variety of tools to represent linear relations derived from descriptions of realistic situa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CF3BF-779B-457A-A6EC-88E953A781EF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0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3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8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a3e0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Possible go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3"/>
          <p:cNvSpPr/>
          <p:nvPr/>
        </p:nvSpPr>
        <p:spPr>
          <a:xfrm>
            <a:off x="1066680" y="1981080"/>
            <a:ext cx="7417080" cy="53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or students to see that it is useful to write the table of values where the independent variable increases in a consistent way, but that’s not required for a table of valu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21215-BAD6-497F-ACAC-86A02A261904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0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5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0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a3e0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1155600" y="990720"/>
            <a:ext cx="7302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Related consolidation 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3"/>
          <p:cNvSpPr/>
          <p:nvPr/>
        </p:nvSpPr>
        <p:spPr>
          <a:xfrm>
            <a:off x="1143000" y="2438280"/>
            <a:ext cx="7416720" cy="58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ere are two tables of values. You want to find out if they represent linear relationships. Which table makes it easier to tel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B0D80-E591-48EF-B95D-235B09FE3718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fill="hold">
                      <p:stCondLst>
                        <p:cond delay="0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7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2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a3e0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A06A4-4DEE-4AB4-B017-4C62F67D2EFB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1447920" y="914400"/>
          <a:ext cx="1930320" cy="6019920"/>
        </p:xfrm>
        <a:graphic>
          <a:graphicData uri="http://schemas.openxmlformats.org/drawingml/2006/table">
            <a:tbl>
              <a:tblPr/>
              <a:tblGrid>
                <a:gridCol w="965160"/>
                <a:gridCol w="965160"/>
              </a:tblGrid>
              <a:tr h="100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3" name=""/>
          <p:cNvGraphicFramePr/>
          <p:nvPr/>
        </p:nvGraphicFramePr>
        <p:xfrm>
          <a:off x="5257800" y="838080"/>
          <a:ext cx="1930320" cy="6019920"/>
        </p:xfrm>
        <a:graphic>
          <a:graphicData uri="http://schemas.openxmlformats.org/drawingml/2006/table">
            <a:tbl>
              <a:tblPr/>
              <a:tblGrid>
                <a:gridCol w="965160"/>
                <a:gridCol w="965160"/>
              </a:tblGrid>
              <a:tr h="100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a3e0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a</a:t>
            </a: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nd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3"/>
          <p:cNvSpPr/>
          <p:nvPr/>
        </p:nvSpPr>
        <p:spPr>
          <a:xfrm>
            <a:off x="1066680" y="1981080"/>
            <a:ext cx="74170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uld you use the other table too, if you wanted t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D3820-5915-4881-A533-DCC65A66A22C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fill="hold">
                      <p:stCondLst>
                        <p:cond delay="0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9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4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a3e0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1155600" y="990720"/>
            <a:ext cx="676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Characteristics of Minds-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1066680" y="2895480"/>
            <a:ext cx="7417080" cy="41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does this minds-on engage student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is it ope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5E649-6CF9-4A9F-BAB9-E9FD05911C97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a3e0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Or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3"/>
          <p:cNvSpPr/>
          <p:nvPr/>
        </p:nvSpPr>
        <p:spPr>
          <a:xfrm>
            <a:off x="1066680" y="1981080"/>
            <a:ext cx="7417080" cy="71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y goal could have been, instead, to ask students to consider how a graphical representation of a relationship described verbally gives other insights into i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15484-35B7-40B8-9D60-47C9602C6262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fill="hold">
                      <p:stCondLst>
                        <p:cond delay="0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1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6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a3e0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That consolidating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3"/>
          <p:cNvSpPr/>
          <p:nvPr/>
        </p:nvSpPr>
        <p:spPr>
          <a:xfrm>
            <a:off x="1066680" y="1981080"/>
            <a:ext cx="7417080" cy="58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uld have been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did the graph make easy to see that wasn’t so obvious befo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3AA40-3078-45FB-A1FB-75530BF78452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fill="hold">
                      <p:stCondLst>
                        <p:cond delay="0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23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8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3" dur="5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a3e0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2"/>
          <p:cNvSpPr/>
          <p:nvPr/>
        </p:nvSpPr>
        <p:spPr>
          <a:xfrm>
            <a:off x="1155600" y="990720"/>
            <a:ext cx="7302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Consolidate today’s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3"/>
          <p:cNvSpPr/>
          <p:nvPr/>
        </p:nvSpPr>
        <p:spPr>
          <a:xfrm>
            <a:off x="1066680" y="1981080"/>
            <a:ext cx="741708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63E3A-4A36-4BC1-9BD2-06379A31D6A1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"/>
          <p:cNvSpPr/>
          <p:nvPr/>
        </p:nvSpPr>
        <p:spPr>
          <a:xfrm>
            <a:off x="1066680" y="1981080"/>
            <a:ext cx="7417080" cy="54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ink/pair/shar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is the difference between an expectation and a big idea? 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’s so big about big idea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34" dur="indefinite" restart="never" nodeType="tmRoot">
          <p:childTnLst>
            <p:seq>
              <p:cTn id="735" dur="indefinite" nodeType="mainSeq">
                <p:childTnLst>
                  <p:par>
                    <p:cTn id="736" fill="hold">
                      <p:stCondLst>
                        <p:cond delay="0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0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5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0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5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0" dur="5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a3e0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Think about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1066680" y="1981080"/>
            <a:ext cx="741708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CFA40-5B27-470C-95A5-5A1EC095F34A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3"/>
          <p:cNvSpPr/>
          <p:nvPr/>
        </p:nvSpPr>
        <p:spPr>
          <a:xfrm>
            <a:off x="1066680" y="1981080"/>
            <a:ext cx="741708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 prepare for tomorrow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uld you think about what you consider important issues in developing lesson goal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61" dur="indefinite" restart="never" nodeType="tmRoot">
          <p:childTnLst>
            <p:seq>
              <p:cTn id="762" dur="indefinite" nodeType="mainSeq">
                <p:childTnLst>
                  <p:par>
                    <p:cTn id="763" fill="hold">
                      <p:stCondLst>
                        <p:cond delay="0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7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2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7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2" dur="5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a3e0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The Important B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1066680" y="1981080"/>
            <a:ext cx="74170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 would like to introduce you to Margaret Wise Brown’s The Important Book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579F9-5093-4D44-B1A4-4F8A44A07ADB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83" dur="indefinite" restart="never" nodeType="tmRoot">
          <p:childTnLst>
            <p:seq>
              <p:cTn id="784" dur="indefinite" nodeType="mainSeq">
                <p:childTnLst>
                  <p:par>
                    <p:cTn id="785" fill="hold">
                      <p:stCondLst>
                        <p:cond delay="0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4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a3e0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A Sample p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84326-640B-4904-8383-C2205E0330DF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4" descr="Picture 1.png"/>
          <p:cNvPicPr/>
          <p:nvPr/>
        </p:nvPicPr>
        <p:blipFill>
          <a:blip r:embed="rId1"/>
          <a:stretch/>
        </p:blipFill>
        <p:spPr>
          <a:xfrm>
            <a:off x="1415880" y="190440"/>
            <a:ext cx="6312240" cy="6477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795" dur="indefinite" restart="never" nodeType="tmRoot">
          <p:childTnLst>
            <p:seq>
              <p:cTn id="796" dur="indefinite" nodeType="mainSeq">
                <p:childTnLst>
                  <p:par>
                    <p:cTn id="797" fill="hold">
                      <p:stCondLst>
                        <p:cond delay="0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01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a3e0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We wi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3"/>
          <p:cNvSpPr/>
          <p:nvPr/>
        </p:nvSpPr>
        <p:spPr>
          <a:xfrm>
            <a:off x="1066680" y="1981080"/>
            <a:ext cx="741708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53315-0FDD-4886-9EB3-6D1EB645CDDB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3"/>
          <p:cNvSpPr/>
          <p:nvPr/>
        </p:nvSpPr>
        <p:spPr>
          <a:xfrm>
            <a:off x="1066680" y="1981080"/>
            <a:ext cx="74170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 this book throughout the week as a way for you to consolidate what you explore in our CAMPPP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02" dur="indefinite" restart="never" nodeType="tmRoot">
          <p:childTnLst>
            <p:seq>
              <p:cTn id="803" dur="indefinite" nodeType="mainSeq">
                <p:childTnLst>
                  <p:par>
                    <p:cTn id="804" fill="hold">
                      <p:stCondLst>
                        <p:cond delay="0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08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3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8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a3e0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1155600" y="990720"/>
            <a:ext cx="676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Characteristics of Minds-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1066680" y="2895480"/>
            <a:ext cx="74170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do you think the important math underlying idea 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7F212-2F90-406C-80DF-5E7FEE3EF5CB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a3e0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1155600" y="990720"/>
            <a:ext cx="676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Characteristics of Minds-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1066680" y="2895480"/>
            <a:ext cx="741708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ould OR how would this question force students to deal with that underlying ide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18A95-AEA6-4168-80F6-37139433A73B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a3e0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914400" y="990720"/>
            <a:ext cx="72388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Might lead to students being able to respond to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1066680" y="2895480"/>
            <a:ext cx="7417080" cy="54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makes a pattern linear i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re are a lot of linear patterns that include the same term becaus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4C5A2-86D8-45A5-9EE8-86ACDD06258F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2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a3e0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O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1066680" y="2895480"/>
            <a:ext cx="741708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f the 100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term of a linear pattern is relatively small, then…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6E349-4185-432B-9703-1F033C7F9178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9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7T17:04:38Z</dcterms:created>
  <dc:creator>PSteele</dc:creator>
  <dc:description/>
  <dc:language>en-US</dc:language>
  <cp:lastModifiedBy>Marian Small</cp:lastModifiedBy>
  <dcterms:modified xsi:type="dcterms:W3CDTF">2009-08-17T20:56:26Z</dcterms:modified>
  <cp:revision>171</cp:revision>
  <dc:subject/>
  <dc:title>Slide 1</dc:title>
</cp:coreProperties>
</file>